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12193588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12"/>
          </p:nvPr>
        </p:nvSpPr>
        <p:spPr>
          <a:xfrm>
            <a:off x="384984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120" y="739800"/>
            <a:ext cx="6568920" cy="369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move the slid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13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14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BEED-DCEC-45E1-A888-240395E23C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480" y="739800"/>
            <a:ext cx="6568920" cy="36957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97E9-6B7D-4008-87FB-5399A3991A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480" y="739800"/>
            <a:ext cx="6568920" cy="3695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6175-567E-4BDC-B6E2-EDFB6A7682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480" y="739800"/>
            <a:ext cx="6568920" cy="36957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5C19-F724-4FBE-A695-B51F7B483A29}" type="slidenum">
              <a:rPr b="0" lang="en-GB" sz="1200" spc="-1" strike="noStrike">
                <a:solidFill>
                  <a:srgbClr val="0046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4A69-B758-439F-A843-B235BB3267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9642-1D8B-4930-BD39-3E32C1E5D8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80E3-B962-4AB6-8AD0-C9A08591E4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43C2-325D-4B33-B547-3A2D1C074D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AE37-FC48-4700-AEBA-E81D402F5A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3985-16E9-42E2-BE28-76A216919F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BA37-AA1A-4030-A0DA-C05FF7D576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C69D-D5B2-4CD7-85E2-F50C820A95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29FB-FB39-4213-A30D-9A77D1A3B3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E940-1B40-4DE5-9644-72C49F0DE2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71C7-18A5-425B-8FFC-255A53F107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7F7B-5593-4337-80DC-B0847697569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BBDB0-B04F-4DB2-8F60-64FED9A8E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3BD4D-3B11-4385-A4F6-F2506BDF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99F29-7A08-41F6-B617-67A27F89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D4AE9-C8E8-4300-91C9-01FC8B1B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9ECFF-41E7-4D08-8672-364B010A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94855-EB04-4D1F-9D7F-98227C00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B634D-43E2-4503-A128-FCACB850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AA8C5-3A23-47E1-A06C-1275CF0A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55938-A24D-4C1B-A736-1386DAD0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F2A00-A107-418E-ADDA-89221F08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F88F6-11F9-4232-82BB-3837274D0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EA0AB-AF26-443C-B0AF-50B9BA79B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5CF4F3-1EF1-4632-A6B1-9C55F30940E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970BF5-0277-46B7-AD71-57D35C790BD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A9AD9B-8795-4629-9869-894ED84AA0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2969C4-327F-4C3D-9EB2-08522F75587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3F7930-C001-4BFA-97DA-8356FF47EDA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D6FDF2-4A93-40D9-B8C4-A7141C60358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041E6D-47B4-4EC3-B038-FFDC189CA32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8150A7-47F1-4CA8-9A6C-2C7CE7F38BB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F64233-A9D7-4717-BF12-BC2D0274ECC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EB5844-479A-49C4-ABBD-00218B8E9E6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92DDE8-6C1E-4934-9F62-3E3E1EEDE2F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E9D248-829D-4280-B58E-1EAA75507A0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746925-041A-4D1A-911C-DD3FC20349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0F27AB-3C09-476C-A4A7-5FC13E0BD45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7FB85B-0BA3-4A23-9796-A9A591058CA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AF57E8-98D0-4342-986A-5936BCFBB06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8362A8-D668-4133-B9CB-788544ACAF8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0C08AC-FED5-495D-B08E-95C161CC427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3090A9-F270-408E-9766-88F5BE5969F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9C1EE1-DCEF-48C4-8193-67E3D97A7C9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253F13-7CAC-40E6-970B-E556E2B86F4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2B9CE9-4211-4D89-8923-0BCBED4C7E7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E71832-2E98-43F9-90F2-EEF701D7EB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937DA6-F71E-477C-992E-536FF3C3C8E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44B8A0-8E83-4F5F-854C-9D0D7ACAE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F64C51-D644-4209-B2B6-2AA235C7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AB0E5F-59EA-47E7-A106-0342E161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98BD31-234C-4391-9C4A-D4EE80A4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49C251-D1B5-4B17-B8C0-06D17F05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780065-21C9-4ACD-BD35-79BFDD82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1CFF02-70C0-402E-8466-D5FF3B8A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D37027-A3AF-4DE6-A87B-FF419FD6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BF5B21-6983-45F2-B931-49675805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A75509-7633-42F1-A839-BAFE3A1F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C307E8-4A28-48C7-AA54-5A5949F38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ECA19D-0010-4C9D-9038-6F2EFB7F2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6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3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0C12-324D-4BC9-BA10-6AE930240F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92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5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2937-A021-4F19-97FC-20F784F294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38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7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0D64-40C1-4235-8963-DBDDEFCEEA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82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8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66F8-E187-4D96-ABC1-EAF393CFE9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0" descr=""/>
          <p:cNvPicPr/>
          <p:nvPr/>
        </p:nvPicPr>
        <p:blipFill>
          <a:blip r:embed="rId2"/>
          <a:srcRect l="41833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4" descr=""/>
          <p:cNvPicPr/>
          <p:nvPr/>
        </p:nvPicPr>
        <p:blipFill>
          <a:blip r:embed="rId3"/>
          <a:stretch/>
        </p:blipFill>
        <p:spPr>
          <a:xfrm>
            <a:off x="9747360" y="298440"/>
            <a:ext cx="2020680" cy="13986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0" descr=""/>
          <p:cNvPicPr/>
          <p:nvPr/>
        </p:nvPicPr>
        <p:blipFill>
          <a:blip r:embed="rId2"/>
          <a:srcRect l="42014" t="0" r="4533" b="0"/>
          <a:stretch/>
        </p:blipFill>
        <p:spPr>
          <a:xfrm>
            <a:off x="-14400" y="3476520"/>
            <a:ext cx="12206520" cy="3381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4" descr=""/>
          <p:cNvPicPr/>
          <p:nvPr/>
        </p:nvPicPr>
        <p:blipFill>
          <a:blip r:embed="rId3"/>
          <a:stretch/>
        </p:blipFill>
        <p:spPr>
          <a:xfrm>
            <a:off x="9747360" y="298440"/>
            <a:ext cx="2020680" cy="13986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9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0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1"/>
          </p:nvPr>
        </p:nvSpPr>
        <p:spPr>
          <a:xfrm>
            <a:off x="0" y="6248520"/>
            <a:ext cx="711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C1AA-9521-4969-A889-DF4028193077}" type="slidenum">
              <a:rPr b="0" lang="en-US" sz="2400" spc="-1" strike="noStrike">
                <a:solidFill>
                  <a:srgbClr val="00468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07520" y="2641320"/>
            <a:ext cx="884412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685"/>
                </a:solidFill>
                <a:latin typeface="Arial"/>
                <a:ea typeface="Arial"/>
              </a:rPr>
              <a:t>Hospital Expansion Update </a:t>
            </a:r>
            <a:endParaRPr b="0" lang="en-US" sz="3600" spc="-1" strike="noStrike">
              <a:solidFill>
                <a:srgbClr val="004685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685"/>
                </a:solidFill>
                <a:latin typeface="Arial"/>
                <a:ea typeface="Arial"/>
              </a:rPr>
              <a:t>NHS GJNUH</a:t>
            </a:r>
            <a:endParaRPr b="0" lang="en-US" sz="3600" spc="-1" strike="noStrike">
              <a:solidFill>
                <a:srgbClr val="004685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685"/>
                </a:solidFill>
                <a:latin typeface="Arial"/>
                <a:ea typeface="Arial"/>
              </a:rPr>
              <a:t>29 September 2022</a:t>
            </a:r>
            <a:endParaRPr b="0" lang="en-US" sz="36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Phase 1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685"/>
                </a:solidFill>
                <a:latin typeface="Tw Cen MT"/>
              </a:rPr>
              <a:t>Phase 1 Eye Centre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Operational from Nov 20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Ongoing defects monitoring continues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Meetings re possible solutions held with the PSCP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Design Engineer developing options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NHS Scotland Assure to review design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olution will be taken to the Water Safety &amp; PCIC Groups 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Increase in patient numbers and double clinics now restrictions have eased.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79640" y="2505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Hospital Expansion Programm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79640" y="1767960"/>
            <a:ext cx="8153280" cy="45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4685"/>
                </a:solidFill>
                <a:latin typeface="Tw Cen MT"/>
              </a:rPr>
              <a:t>Phase 2 Surgical Centr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NHS Assure Stage 4 Construction Review now concluded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Initial report issued to NHS GJ and PSCP for review and comment 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Reduction in recommendations and actions from Stage 3 review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Engagement ongoing with SG in relation to scheduling next Gateway Review now NHS Assure has been completed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8480" y="183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Hospital Expansion Programm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068480" y="1682640"/>
            <a:ext cx="815328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4685"/>
                </a:solidFill>
                <a:latin typeface="Tw Cen MT"/>
              </a:rPr>
              <a:t>Phase 2 Surgical Centr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Works continue on site to programme 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Fire taping &amp; finishing taping L3, L1 &amp; L2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Lift installation (6 of 8 complete) progressing lifts 1&amp;2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Floor finishes in theatres completed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AHU deliveries, Electrical transformer delivered 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Canopy installation in theatres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Roof access ladders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All level 2 modules now onsite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Progressing with external works 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Phase 2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pic>
        <p:nvPicPr>
          <p:cNvPr id="359" name="Content Placeholder 4" descr=""/>
          <p:cNvPicPr/>
          <p:nvPr/>
        </p:nvPicPr>
        <p:blipFill>
          <a:blip r:embed="rId1"/>
          <a:stretch/>
        </p:blipFill>
        <p:spPr>
          <a:xfrm>
            <a:off x="817560" y="1957320"/>
            <a:ext cx="4403880" cy="32814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"/>
          <p:cNvPicPr/>
          <p:nvPr/>
        </p:nvPicPr>
        <p:blipFill>
          <a:blip r:embed="rId2"/>
          <a:stretch/>
        </p:blipFill>
        <p:spPr>
          <a:xfrm>
            <a:off x="6742080" y="1874880"/>
            <a:ext cx="4635360" cy="3363840"/>
          </a:xfrm>
          <a:prstGeom prst="rect">
            <a:avLst/>
          </a:prstGeom>
          <a:ln w="0">
            <a:noFill/>
          </a:ln>
        </p:spPr>
      </p:pic>
      <p:sp>
        <p:nvSpPr>
          <p:cNvPr id="361" name="TextBox 6"/>
          <p:cNvSpPr/>
          <p:nvPr/>
        </p:nvSpPr>
        <p:spPr>
          <a:xfrm>
            <a:off x="1386000" y="5576760"/>
            <a:ext cx="28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Theatre corridor 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7245360" y="5576760"/>
            <a:ext cx="28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Theatre canopies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Phase 2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pic>
        <p:nvPicPr>
          <p:cNvPr id="364" name="Content Placeholder 6" descr=""/>
          <p:cNvPicPr/>
          <p:nvPr/>
        </p:nvPicPr>
        <p:blipFill>
          <a:blip r:embed="rId1"/>
          <a:stretch/>
        </p:blipFill>
        <p:spPr>
          <a:xfrm>
            <a:off x="1225440" y="1589040"/>
            <a:ext cx="3475080" cy="44956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"/>
          <p:cNvPicPr/>
          <p:nvPr/>
        </p:nvPicPr>
        <p:blipFill>
          <a:blip r:embed="rId2"/>
          <a:stretch/>
        </p:blipFill>
        <p:spPr>
          <a:xfrm>
            <a:off x="6616800" y="1589040"/>
            <a:ext cx="4637160" cy="4495680"/>
          </a:xfrm>
          <a:prstGeom prst="rect">
            <a:avLst/>
          </a:prstGeom>
          <a:ln w="0">
            <a:noFill/>
          </a:ln>
        </p:spPr>
      </p:pic>
      <p:sp>
        <p:nvSpPr>
          <p:cNvPr id="366" name="TextBox 8"/>
          <p:cNvSpPr/>
          <p:nvPr/>
        </p:nvSpPr>
        <p:spPr>
          <a:xfrm>
            <a:off x="1555920" y="6224760"/>
            <a:ext cx="28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Trialling sanitary ware 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67" name="TextBox 9"/>
          <p:cNvSpPr/>
          <p:nvPr/>
        </p:nvSpPr>
        <p:spPr>
          <a:xfrm>
            <a:off x="7213680" y="6254640"/>
            <a:ext cx="26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Surgical Admissions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Breakthroughs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Level 1 Junction 3 completed 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Level 1 Junction 2 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HAI SCRIBE completed 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Services diversions and isolations commenced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Hoarding installation planned early Sept 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Level 2 Junction 1, 2 and 3 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Hoardings installed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Service diversions and isolations commenced 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Refurbishments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Ortho OPD (WTO1)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oarding installed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AI SCRIBE complete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oft strip of area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ervice diversion and isolations underway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Theatre Admin (WTO 3)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AI SCRIBE complete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oarding installed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ervice diversion and isolations underway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PACU and theatre refurbishment (WTO 2)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urvey work commenced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" descr=""/>
          <p:cNvPicPr/>
          <p:nvPr/>
        </p:nvPicPr>
        <p:blipFill>
          <a:blip r:embed="rId1"/>
          <a:stretch/>
        </p:blipFill>
        <p:spPr>
          <a:xfrm>
            <a:off x="1673280" y="-61920"/>
            <a:ext cx="8688240" cy="690408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3"/>
          <p:cNvSpPr/>
          <p:nvPr/>
        </p:nvSpPr>
        <p:spPr>
          <a:xfrm>
            <a:off x="5181480" y="60480"/>
            <a:ext cx="3187800" cy="2098440"/>
          </a:xfrm>
          <a:prstGeom prst="rect">
            <a:avLst/>
          </a:prstGeom>
          <a:solidFill>
            <a:srgbClr val="7f7f7f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2440080" y="5703840"/>
            <a:ext cx="2081160" cy="1101600"/>
          </a:xfrm>
          <a:prstGeom prst="rect">
            <a:avLst/>
          </a:prstGeom>
          <a:solidFill>
            <a:srgbClr val="7f7f7f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5659560" y="3247920"/>
            <a:ext cx="384120" cy="314280"/>
          </a:xfrm>
          <a:prstGeom prst="rect">
            <a:avLst/>
          </a:prstGeom>
          <a:solidFill>
            <a:srgbClr val="7f7f7f">
              <a:alpha val="46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6018120" y="4530600"/>
            <a:ext cx="260280" cy="644760"/>
          </a:xfrm>
          <a:prstGeom prst="rect">
            <a:avLst/>
          </a:prstGeom>
          <a:solidFill>
            <a:srgbClr val="7f7f7f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4835520" y="4113360"/>
            <a:ext cx="901800" cy="1126800"/>
          </a:xfrm>
          <a:prstGeom prst="rect">
            <a:avLst/>
          </a:prstGeom>
          <a:solidFill>
            <a:srgbClr val="7f7f7f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8" name="Rectangle 2"/>
          <p:cNvSpPr/>
          <p:nvPr/>
        </p:nvSpPr>
        <p:spPr>
          <a:xfrm>
            <a:off x="8745480" y="5097600"/>
            <a:ext cx="1368360" cy="384120"/>
          </a:xfrm>
          <a:prstGeom prst="rect">
            <a:avLst/>
          </a:prstGeom>
          <a:solidFill>
            <a:srgbClr val="92d050">
              <a:alpha val="50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6634080" y="5526000"/>
            <a:ext cx="397080" cy="1279440"/>
          </a:xfrm>
          <a:prstGeom prst="rect">
            <a:avLst/>
          </a:prstGeom>
          <a:solidFill>
            <a:srgbClr val="92d050">
              <a:alpha val="50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9640800" y="5481720"/>
            <a:ext cx="471600" cy="1077840"/>
          </a:xfrm>
          <a:prstGeom prst="rect">
            <a:avLst/>
          </a:prstGeom>
          <a:solidFill>
            <a:srgbClr val="92d050">
              <a:alpha val="50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9718560" y="3745080"/>
            <a:ext cx="897120" cy="312480"/>
          </a:xfrm>
          <a:prstGeom prst="rect">
            <a:avLst/>
          </a:prstGeom>
          <a:solidFill>
            <a:srgbClr val="7f7f7f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Post Phase 2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2" name="Rectangle 11"/>
          <p:cNvSpPr/>
          <p:nvPr/>
        </p:nvSpPr>
        <p:spPr>
          <a:xfrm flipH="1">
            <a:off x="9717840" y="3083040"/>
            <a:ext cx="809640" cy="312480"/>
          </a:xfrm>
          <a:prstGeom prst="rect">
            <a:avLst/>
          </a:prstGeom>
          <a:solidFill>
            <a:srgbClr val="92d050">
              <a:alpha val="50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Pre Phase 2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3" name="TextBox 12"/>
          <p:cNvSpPr/>
          <p:nvPr/>
        </p:nvSpPr>
        <p:spPr>
          <a:xfrm>
            <a:off x="5251320" y="98280"/>
            <a:ext cx="227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Provision of additional PACU beds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4" name="TextBox 13"/>
          <p:cNvSpPr/>
          <p:nvPr/>
        </p:nvSpPr>
        <p:spPr>
          <a:xfrm>
            <a:off x="5346360" y="2992320"/>
            <a:ext cx="1332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Widen door access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5" name="TextBox 14"/>
          <p:cNvSpPr/>
          <p:nvPr/>
        </p:nvSpPr>
        <p:spPr>
          <a:xfrm>
            <a:off x="5855760" y="4359240"/>
            <a:ext cx="848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Trolley bay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6" name="TextBox 15"/>
          <p:cNvSpPr/>
          <p:nvPr/>
        </p:nvSpPr>
        <p:spPr>
          <a:xfrm>
            <a:off x="4643280" y="4113360"/>
            <a:ext cx="1287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Create lay up prep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7" name="TextBox 16"/>
          <p:cNvSpPr/>
          <p:nvPr/>
        </p:nvSpPr>
        <p:spPr>
          <a:xfrm>
            <a:off x="2516040" y="5703840"/>
            <a:ext cx="203832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Breakthrough &amp;Theatre 9 refurb 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8" name="TextBox 17"/>
          <p:cNvSpPr/>
          <p:nvPr/>
        </p:nvSpPr>
        <p:spPr>
          <a:xfrm>
            <a:off x="4921920" y="3733920"/>
            <a:ext cx="6350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Thoraci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9" name="TextBox 18"/>
          <p:cNvSpPr/>
          <p:nvPr/>
        </p:nvSpPr>
        <p:spPr>
          <a:xfrm>
            <a:off x="6329160" y="3746520"/>
            <a:ext cx="6350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Thoraci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0" name="TextBox 19"/>
          <p:cNvSpPr/>
          <p:nvPr/>
        </p:nvSpPr>
        <p:spPr>
          <a:xfrm>
            <a:off x="8787960" y="3116160"/>
            <a:ext cx="583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1" name="TextBox 20"/>
          <p:cNvSpPr/>
          <p:nvPr/>
        </p:nvSpPr>
        <p:spPr>
          <a:xfrm>
            <a:off x="8897760" y="4498920"/>
            <a:ext cx="5940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2" name="TextBox 21"/>
          <p:cNvSpPr/>
          <p:nvPr/>
        </p:nvSpPr>
        <p:spPr>
          <a:xfrm>
            <a:off x="7170840" y="624528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3" name="TextBox 22"/>
          <p:cNvSpPr/>
          <p:nvPr/>
        </p:nvSpPr>
        <p:spPr>
          <a:xfrm>
            <a:off x="8829720" y="621036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4" name="TextBox 23"/>
          <p:cNvSpPr/>
          <p:nvPr/>
        </p:nvSpPr>
        <p:spPr>
          <a:xfrm>
            <a:off x="2516040" y="414504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Ortho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5" name="TextBox 24"/>
          <p:cNvSpPr/>
          <p:nvPr/>
        </p:nvSpPr>
        <p:spPr>
          <a:xfrm>
            <a:off x="3992400" y="345456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Ortho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6" name="TextBox 25"/>
          <p:cNvSpPr/>
          <p:nvPr/>
        </p:nvSpPr>
        <p:spPr>
          <a:xfrm>
            <a:off x="3992400" y="466884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Ortho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7" name="TextBox 26"/>
          <p:cNvSpPr/>
          <p:nvPr/>
        </p:nvSpPr>
        <p:spPr>
          <a:xfrm>
            <a:off x="4643280" y="6210360"/>
            <a:ext cx="684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olorect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8" name="TextBox 27"/>
          <p:cNvSpPr/>
          <p:nvPr/>
        </p:nvSpPr>
        <p:spPr>
          <a:xfrm>
            <a:off x="7319880" y="3517920"/>
            <a:ext cx="6127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Gener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9" name="TextBox 28"/>
          <p:cNvSpPr/>
          <p:nvPr/>
        </p:nvSpPr>
        <p:spPr>
          <a:xfrm>
            <a:off x="7319880" y="4754520"/>
            <a:ext cx="6127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Gener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0" name="TextBox 29"/>
          <p:cNvSpPr/>
          <p:nvPr/>
        </p:nvSpPr>
        <p:spPr>
          <a:xfrm>
            <a:off x="5880240" y="6126120"/>
            <a:ext cx="6141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Gener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1" name="TextBox 30"/>
          <p:cNvSpPr/>
          <p:nvPr/>
        </p:nvSpPr>
        <p:spPr>
          <a:xfrm>
            <a:off x="6510240" y="5519880"/>
            <a:ext cx="10242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Breakthrough</a:t>
            </a: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2" name="TextBox 31"/>
          <p:cNvSpPr/>
          <p:nvPr/>
        </p:nvSpPr>
        <p:spPr>
          <a:xfrm>
            <a:off x="9375840" y="5103720"/>
            <a:ext cx="15382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Breakthrough &amp; new stairwell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3" name="Rectangle 32"/>
          <p:cNvSpPr/>
          <p:nvPr/>
        </p:nvSpPr>
        <p:spPr>
          <a:xfrm>
            <a:off x="4562640" y="5703840"/>
            <a:ext cx="901440" cy="112716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4" name="Rectangle 33"/>
          <p:cNvSpPr/>
          <p:nvPr/>
        </p:nvSpPr>
        <p:spPr>
          <a:xfrm>
            <a:off x="3693960" y="2144880"/>
            <a:ext cx="4675320" cy="90000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5" name="Rectangle 34"/>
          <p:cNvSpPr/>
          <p:nvPr/>
        </p:nvSpPr>
        <p:spPr>
          <a:xfrm>
            <a:off x="8680320" y="4113360"/>
            <a:ext cx="901800" cy="101916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6" name="Rectangle 35"/>
          <p:cNvSpPr/>
          <p:nvPr/>
        </p:nvSpPr>
        <p:spPr>
          <a:xfrm>
            <a:off x="8685360" y="5697360"/>
            <a:ext cx="901440" cy="106524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7" name="Rectangle 36"/>
          <p:cNvSpPr/>
          <p:nvPr/>
        </p:nvSpPr>
        <p:spPr>
          <a:xfrm>
            <a:off x="7072200" y="5742000"/>
            <a:ext cx="901800" cy="105408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8" name="Rectangle 37"/>
          <p:cNvSpPr/>
          <p:nvPr/>
        </p:nvSpPr>
        <p:spPr>
          <a:xfrm>
            <a:off x="5667480" y="5789520"/>
            <a:ext cx="901440" cy="101916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9" name="Rectangle 38"/>
          <p:cNvSpPr/>
          <p:nvPr/>
        </p:nvSpPr>
        <p:spPr>
          <a:xfrm>
            <a:off x="9731520" y="4278240"/>
            <a:ext cx="896760" cy="312840"/>
          </a:xfrm>
          <a:prstGeom prst="rect">
            <a:avLst/>
          </a:prstGeom>
          <a:solidFill>
            <a:srgbClr val="00a2e2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Disruption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10" name="Rectangle 39"/>
          <p:cNvSpPr/>
          <p:nvPr/>
        </p:nvSpPr>
        <p:spPr>
          <a:xfrm>
            <a:off x="6238800" y="3218040"/>
            <a:ext cx="984240" cy="866520"/>
          </a:xfrm>
          <a:prstGeom prst="rect">
            <a:avLst/>
          </a:prstGeom>
          <a:solidFill>
            <a:srgbClr val="ffc000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11" name="Rectangle 40"/>
          <p:cNvSpPr/>
          <p:nvPr/>
        </p:nvSpPr>
        <p:spPr>
          <a:xfrm>
            <a:off x="4829040" y="3240000"/>
            <a:ext cx="784440" cy="873360"/>
          </a:xfrm>
          <a:prstGeom prst="rect">
            <a:avLst/>
          </a:prstGeom>
          <a:solidFill>
            <a:srgbClr val="ffc000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12" name="Rectangle 41"/>
          <p:cNvSpPr/>
          <p:nvPr/>
        </p:nvSpPr>
        <p:spPr>
          <a:xfrm>
            <a:off x="9718560" y="4729320"/>
            <a:ext cx="897120" cy="312480"/>
          </a:xfrm>
          <a:prstGeom prst="rect">
            <a:avLst/>
          </a:prstGeom>
          <a:solidFill>
            <a:srgbClr val="ffc000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? Th Move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3:33:31Z</dcterms:created>
  <dc:creator>Martin Clark</dc:creator>
  <dc:description/>
  <dc:language>en-US</dc:language>
  <cp:lastModifiedBy>Alison Mackay</cp:lastModifiedBy>
  <cp:lastPrinted>2022-08-31T13:23:00Z</cp:lastPrinted>
  <dcterms:modified xsi:type="dcterms:W3CDTF">2022-09-14T13:06:35Z</dcterms:modified>
  <cp:revision>225</cp:revision>
  <dc:subject/>
  <dc:title>West of Scotland  Cardio-Thoracic Surgery Centre  Engagement Event</dc:title>
</cp:coreProperties>
</file>